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048-787C-4159-9754-96484179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55F-F866-4D6C-93E2-FA1ED659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BF8-9041-4FC1-AEFE-1C3D75EC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A65-B94B-410F-8B59-A408DA39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0E3-2A58-4C6C-BBA3-44E2937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07B-5452-471A-BDCC-57240BFB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D2D-64E8-457E-AE4C-A275B315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F75-335A-4F0F-86D3-49E51D9D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84A-A084-48E6-9589-AA49976C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11D-DF0D-4F81-A200-C5A5FBE1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478-F3F9-408C-91BD-FAE0F5C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DB2-59D1-4097-9BEE-B3BF7A1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27B-C7E2-487F-8943-052FB632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ystem of signs and maps (placement, ori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Direction-Giv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ript for all current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Signs themselves</a:t>
            </a:r>
            <a:r>
              <a:rPr b="0" lang="en-US" sz="2200" spc="-1" strike="noStrike">
                <a:solidFill>
                  <a:srgbClr val="009999"/>
                </a:solidFill>
                <a:latin typeface="Century Gothic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(one sign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46996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649160" cy="109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867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2590920" cy="12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lace to Place Direction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ace could be layered by complexity (viewing options based on cognitive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hortest path algorithm i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 as a storyboard if unable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/plastic map or mock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tentially lay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controls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Map form of user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uld be printed from Place to Pla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lor coordination or thematic element between hospital an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792468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Diane Dutcher</cp:lastModifiedBy>
  <dcterms:modified xsi:type="dcterms:W3CDTF">2007-10-25T02:42:57Z</dcterms:modified>
  <cp:revision>10</cp:revision>
  <dc:subject/>
  <dc:title>Step-by-Step a way-finding design team</dc:title>
</cp:coreProperties>
</file>